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691813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85880" y="28224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85520" y="1963800"/>
            <a:ext cx="930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85520" y="4541760"/>
            <a:ext cx="930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85880" y="28224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85520" y="1963800"/>
            <a:ext cx="45403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553360" y="1963800"/>
            <a:ext cx="45403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85520" y="4541760"/>
            <a:ext cx="45403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553360" y="4541760"/>
            <a:ext cx="45403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85880" y="28224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85520" y="1963800"/>
            <a:ext cx="299556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931200" y="1963800"/>
            <a:ext cx="299556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076880" y="1963800"/>
            <a:ext cx="299556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85520" y="4541760"/>
            <a:ext cx="299556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931200" y="4541760"/>
            <a:ext cx="299556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7076880" y="4541760"/>
            <a:ext cx="299556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85880" y="28224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85520" y="1963800"/>
            <a:ext cx="93042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85880" y="28224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85520" y="1963800"/>
            <a:ext cx="93042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85880" y="28224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85520" y="1963800"/>
            <a:ext cx="454032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553360" y="1963800"/>
            <a:ext cx="454032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85880" y="28224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85880" y="282240"/>
            <a:ext cx="91296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5000"/>
              </a:lnSpc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85880" y="28224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85520" y="1963800"/>
            <a:ext cx="45403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53360" y="1963800"/>
            <a:ext cx="454032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85520" y="4541760"/>
            <a:ext cx="45403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85880" y="28224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85520" y="1963800"/>
            <a:ext cx="454032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53360" y="1963800"/>
            <a:ext cx="45403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553360" y="4541760"/>
            <a:ext cx="45403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85880" y="28224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85520" y="1963800"/>
            <a:ext cx="45403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53360" y="1963800"/>
            <a:ext cx="454032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85520" y="4541760"/>
            <a:ext cx="9304200" cy="235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8240" y="7077240"/>
            <a:ext cx="992340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108160" y="7289640"/>
            <a:ext cx="858348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85880" y="282240"/>
            <a:ext cx="9129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785520" y="1963800"/>
            <a:ext cx="9304200" cy="493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863640" indent="-28728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295280" indent="-21564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727280" indent="-21600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SzPct val="75000"/>
              <a:buFont typeface="Symbol" charset="2"/>
              <a:buChar char="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8920" indent="-21564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158920" indent="-2156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19280"/>
                <a:tab algn="l" pos="1438200"/>
                <a:tab algn="l" pos="2157480"/>
                <a:tab algn="l" pos="2876400"/>
                <a:tab algn="l" pos="3595680"/>
                <a:tab algn="l" pos="431496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85520" y="-360"/>
            <a:ext cx="9131400" cy="249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IL  NOME: è la parte variabile del discorso e serve a nominare cose, persone o animali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53800" y="2224080"/>
            <a:ext cx="89931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31640" indent="0">
              <a:lnSpc>
                <a:spcPct val="95000"/>
              </a:lnSpc>
              <a:spcBef>
                <a:spcPts val="2551"/>
              </a:spcBef>
              <a:spcAft>
                <a:spcPts val="2551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200" spc="-1" strike="noStrike">
                <a:solidFill>
                  <a:srgbClr val="cccccc"/>
                </a:solidFill>
                <a:latin typeface="Times New Roman"/>
                <a:ea typeface="HG Mincho Light J"/>
              </a:rPr>
              <a:t>Può essere: 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431640" indent="-215640">
              <a:lnSpc>
                <a:spcPct val="95000"/>
              </a:lnSpc>
              <a:spcBef>
                <a:spcPts val="2551"/>
              </a:spcBef>
              <a:spcAft>
                <a:spcPts val="2551"/>
              </a:spcAft>
              <a:buSzPct val="1000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200" spc="-1" strike="noStrike">
                <a:solidFill>
                  <a:srgbClr val="cccccc"/>
                </a:solidFill>
                <a:latin typeface="Times New Roman"/>
                <a:ea typeface="HG Mincho Light J"/>
              </a:rPr>
              <a:t>comune (es. foglio, penna, stampante)       o proprio (es. Anna Rossi)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431640" indent="-215640">
              <a:lnSpc>
                <a:spcPct val="95000"/>
              </a:lnSpc>
              <a:spcBef>
                <a:spcPts val="2551"/>
              </a:spcBef>
              <a:spcAft>
                <a:spcPts val="2551"/>
              </a:spcAft>
              <a:buSzPct val="100000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200" spc="-1" strike="noStrike">
                <a:solidFill>
                  <a:srgbClr val="cccccc"/>
                </a:solidFill>
                <a:latin typeface="Times New Roman"/>
                <a:ea typeface="HG Mincho Light J"/>
              </a:rPr>
              <a:t>concreto (es. libro, lampada) o astratto (es. attività, opinione)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lvl="1" marL="431640" indent="-215640">
              <a:lnSpc>
                <a:spcPct val="95000"/>
              </a:lnSpc>
              <a:spcBef>
                <a:spcPts val="2551"/>
              </a:spcBef>
              <a:spcAft>
                <a:spcPts val="2551"/>
              </a:spcAft>
              <a:buSzPct val="100000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200" spc="-1" strike="noStrike">
                <a:solidFill>
                  <a:srgbClr val="cccccc"/>
                </a:solidFill>
                <a:latin typeface="Times New Roman"/>
                <a:ea typeface="HG Mincho Light J"/>
              </a:rPr>
              <a:t>Maschile o femminile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5520" y="282600"/>
            <a:ext cx="91314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L'AGGETTIVO: serve ad aggiungere una caratteristica al nom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96560" y="2185920"/>
            <a:ext cx="899316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03280" indent="0">
              <a:lnSpc>
                <a:spcPct val="95000"/>
              </a:lnSpc>
              <a:spcBef>
                <a:spcPts val="2276"/>
              </a:spcBef>
              <a:spcAft>
                <a:spcPts val="3688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200" spc="-1" strike="noStrike">
                <a:solidFill>
                  <a:srgbClr val="e6e6e6"/>
                </a:solidFill>
                <a:latin typeface="Times New Roman"/>
              </a:rPr>
              <a:t>Può essere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503280" indent="-432000">
              <a:lnSpc>
                <a:spcPct val="95000"/>
              </a:lnSpc>
              <a:spcBef>
                <a:spcPts val="2276"/>
              </a:spcBef>
              <a:spcAft>
                <a:spcPts val="3688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200" spc="-1" strike="noStrike">
                <a:solidFill>
                  <a:srgbClr val="e6e6e6"/>
                </a:solidFill>
                <a:latin typeface="Times New Roman"/>
              </a:rPr>
              <a:t>Qualificativo: una relazione interessante, una buona annata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503280" indent="-432000">
              <a:lnSpc>
                <a:spcPct val="95000"/>
              </a:lnSpc>
              <a:spcBef>
                <a:spcPts val="2276"/>
              </a:spcBef>
              <a:spcAft>
                <a:spcPts val="3688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200" spc="-1" strike="noStrike">
                <a:solidFill>
                  <a:srgbClr val="e6e6e6"/>
                </a:solidFill>
                <a:latin typeface="Times New Roman"/>
              </a:rPr>
              <a:t>Possessivo: mio, tuo, suo....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503280" indent="-432000">
              <a:lnSpc>
                <a:spcPct val="95000"/>
              </a:lnSpc>
              <a:spcBef>
                <a:spcPts val="2276"/>
              </a:spcBef>
              <a:spcAft>
                <a:spcPts val="3688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200" spc="-1" strike="noStrike">
                <a:solidFill>
                  <a:srgbClr val="e6e6e6"/>
                </a:solidFill>
                <a:latin typeface="Times New Roman"/>
              </a:rPr>
              <a:t>Dimostrativo: questo, quello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85520" y="282600"/>
            <a:ext cx="91314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IL VERBO: esprime l'azione a cui ci si riferisce nella fras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85880" y="1792440"/>
            <a:ext cx="9306000" cy="51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Le caratteristiche sono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La persona (prima, seconda, terza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Il numero (singolare o plurale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Il tempo (presente passato o futuro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-323640">
              <a:lnSpc>
                <a:spcPct val="95000"/>
              </a:lnSpc>
              <a:spcAft>
                <a:spcPts val="142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La forma: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8920" indent="-215640">
              <a:lnSpc>
                <a:spcPct val="95000"/>
              </a:lnSpc>
              <a:spcAft>
                <a:spcPts val="28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Attiva (io guardo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8920" indent="-215640">
              <a:lnSpc>
                <a:spcPct val="95000"/>
              </a:lnSpc>
              <a:spcAft>
                <a:spcPts val="28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Passiva (io sono guardato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158920" indent="-215640">
              <a:lnSpc>
                <a:spcPct val="95000"/>
              </a:lnSpc>
              <a:spcAft>
                <a:spcPts val="286"/>
              </a:spcAft>
              <a:buClr>
                <a:srgbClr val="e6e6e6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Riflessiva (io mi guardo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520" y="282600"/>
            <a:ext cx="91314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>
              <a:lnSpc>
                <a:spcPct val="95000"/>
              </a:lnSpc>
              <a:spcBef>
                <a:spcPts val="1137"/>
              </a:spcBef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Arial"/>
              </a:rPr>
              <a:t>Il modo: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4520" y="1963800"/>
            <a:ext cx="483552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8080" indent="0">
              <a:lnSpc>
                <a:spcPct val="95000"/>
              </a:lnSpc>
              <a:spcBef>
                <a:spcPts val="1701"/>
              </a:spcBef>
              <a:spcAft>
                <a:spcPts val="229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3200" spc="-1" strike="noStrike">
                <a:solidFill>
                  <a:srgbClr val="e6e6e6"/>
                </a:solidFill>
                <a:latin typeface="Times New Roman"/>
              </a:rPr>
              <a:t>Finito: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208080" indent="0">
              <a:lnSpc>
                <a:spcPct val="95000"/>
              </a:lnSpc>
              <a:spcBef>
                <a:spcPts val="1701"/>
              </a:spcBef>
              <a:spcAft>
                <a:spcPts val="229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3200" spc="-1" strike="noStrike">
                <a:solidFill>
                  <a:srgbClr val="e6e6e6"/>
                </a:solidFill>
                <a:latin typeface="Times New Roman"/>
              </a:rPr>
              <a:t>indicativo (io leggo) 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208080" indent="0">
              <a:lnSpc>
                <a:spcPct val="95000"/>
              </a:lnSpc>
              <a:spcBef>
                <a:spcPts val="1701"/>
              </a:spcBef>
              <a:spcAft>
                <a:spcPts val="229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3200" spc="-1" strike="noStrike">
                <a:solidFill>
                  <a:srgbClr val="e6e6e6"/>
                </a:solidFill>
                <a:latin typeface="Times New Roman"/>
              </a:rPr>
              <a:t>congiuntivo (che io legga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208080" indent="0">
              <a:lnSpc>
                <a:spcPct val="95000"/>
              </a:lnSpc>
              <a:spcBef>
                <a:spcPts val="1701"/>
              </a:spcBef>
              <a:spcAft>
                <a:spcPts val="229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3200" spc="-1" strike="noStrike">
                <a:solidFill>
                  <a:srgbClr val="e6e6e6"/>
                </a:solidFill>
                <a:latin typeface="Times New Roman"/>
              </a:rPr>
              <a:t>condizionale (io leggerei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marL="208080" indent="0">
              <a:lnSpc>
                <a:spcPct val="95000"/>
              </a:lnSpc>
              <a:spcBef>
                <a:spcPts val="1701"/>
              </a:spcBef>
              <a:spcAft>
                <a:spcPts val="2299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3200" spc="-1" strike="noStrike">
                <a:solidFill>
                  <a:srgbClr val="e6e6e6"/>
                </a:solidFill>
                <a:latin typeface="Times New Roman"/>
              </a:rPr>
              <a:t>imperativo (leggi!)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989320" y="1942920"/>
            <a:ext cx="4701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0">
              <a:lnSpc>
                <a:spcPct val="95000"/>
              </a:lnSpc>
              <a:spcBef>
                <a:spcPts val="1701"/>
              </a:spcBef>
              <a:spcAft>
                <a:spcPts val="2299"/>
              </a:spcAft>
              <a:buNone/>
              <a:tabLst>
                <a:tab algn="l" pos="0"/>
                <a:tab algn="l" pos="62712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Times New Roman"/>
              </a:rPr>
              <a:t>Infinito: </a:t>
            </a:r>
            <a:endParaRPr b="0" lang="en-US" sz="4000" spc="-1" strike="noStrike">
              <a:solidFill>
                <a:srgbClr val="e6e6e6"/>
              </a:solidFill>
              <a:latin typeface="Times New Roman"/>
            </a:endParaRPr>
          </a:p>
          <a:p>
            <a:pPr marL="457200" indent="0">
              <a:lnSpc>
                <a:spcPct val="95000"/>
              </a:lnSpc>
              <a:spcBef>
                <a:spcPts val="1701"/>
              </a:spcBef>
              <a:spcAft>
                <a:spcPts val="2299"/>
              </a:spcAft>
              <a:buNone/>
              <a:tabLst>
                <a:tab algn="l" pos="0"/>
                <a:tab algn="l" pos="62712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3600" spc="-1" strike="noStrike">
                <a:solidFill>
                  <a:srgbClr val="e6e6e6"/>
                </a:solidFill>
                <a:latin typeface="Times New Roman"/>
              </a:rPr>
              <a:t>infinito (leggere)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57200" indent="0">
              <a:lnSpc>
                <a:spcPct val="95000"/>
              </a:lnSpc>
              <a:spcBef>
                <a:spcPts val="1701"/>
              </a:spcBef>
              <a:spcAft>
                <a:spcPts val="2299"/>
              </a:spcAft>
              <a:buNone/>
              <a:tabLst>
                <a:tab algn="l" pos="0"/>
                <a:tab algn="l" pos="62712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3600" spc="-1" strike="noStrike">
                <a:solidFill>
                  <a:srgbClr val="e6e6e6"/>
                </a:solidFill>
                <a:latin typeface="Times New Roman"/>
              </a:rPr>
              <a:t>participio (letto) 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  <a:p>
            <a:pPr marL="457200" indent="0">
              <a:lnSpc>
                <a:spcPct val="95000"/>
              </a:lnSpc>
              <a:spcBef>
                <a:spcPts val="1701"/>
              </a:spcBef>
              <a:spcAft>
                <a:spcPts val="2299"/>
              </a:spcAft>
              <a:buNone/>
              <a:tabLst>
                <a:tab algn="l" pos="0"/>
                <a:tab algn="l" pos="62712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33880"/>
                <a:tab algn="l" pos="5753160"/>
                <a:tab algn="l" pos="6472080"/>
                <a:tab algn="l" pos="7191360"/>
                <a:tab algn="l" pos="7910640"/>
                <a:tab algn="l" pos="8629560"/>
                <a:tab algn="l" pos="9348840"/>
                <a:tab algn="l" pos="10067760"/>
                <a:tab algn="l" pos="10787040"/>
              </a:tabLst>
            </a:pPr>
            <a:r>
              <a:rPr b="1" i="1" lang="en-US" sz="3600" spc="-1" strike="noStrike">
                <a:solidFill>
                  <a:srgbClr val="e6e6e6"/>
                </a:solidFill>
                <a:latin typeface="Times New Roman"/>
              </a:rPr>
              <a:t>gerundio (leggendo)</a:t>
            </a:r>
            <a:endParaRPr b="0" lang="en-US" sz="3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268080" y="5315040"/>
            <a:ext cx="1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90120" y="816120"/>
            <a:ext cx="913140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IL SOGGETTO: è colui che compie l'azione della fras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85880" y="1963800"/>
            <a:ext cx="930600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i="1" lang="en-US" sz="4000" spc="-1" strike="noStrike">
                <a:solidFill>
                  <a:srgbClr val="cccccc"/>
                </a:solidFill>
                <a:latin typeface="Times New Roman"/>
              </a:rPr>
              <a:t>L'assitente </a:t>
            </a:r>
            <a:r>
              <a:rPr b="0" lang="en-US" sz="4000" spc="-1" strike="noStrike">
                <a:solidFill>
                  <a:srgbClr val="cccccc"/>
                </a:solidFill>
                <a:latin typeface="Times New Roman"/>
              </a:rPr>
              <a:t>ha finito il lavoro</a:t>
            </a:r>
            <a:endParaRPr b="0" lang="en-US" sz="40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40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i="1" lang="en-US" sz="4000" spc="-1" strike="noStrike">
                <a:solidFill>
                  <a:srgbClr val="cccccc"/>
                </a:solidFill>
                <a:latin typeface="Times New Roman"/>
              </a:rPr>
              <a:t>L'impiegata è stata promossa</a:t>
            </a:r>
            <a:endParaRPr b="0" lang="en-US" sz="40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40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i="1" lang="en-US" sz="4000" spc="-1" strike="noStrike">
                <a:solidFill>
                  <a:srgbClr val="cccccc"/>
                </a:solidFill>
                <a:latin typeface="Times New Roman"/>
              </a:rPr>
              <a:t>La fotocopiatrice</a:t>
            </a:r>
            <a:r>
              <a:rPr b="0" lang="en-US" sz="4000" spc="-1" strike="noStrike">
                <a:solidFill>
                  <a:srgbClr val="cccccc"/>
                </a:solidFill>
                <a:latin typeface="Times New Roman"/>
              </a:rPr>
              <a:t> si è rotta </a:t>
            </a:r>
            <a:endParaRPr b="0" lang="en-US" sz="40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67800" y="6114960"/>
            <a:ext cx="37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520" y="312840"/>
            <a:ext cx="9131400" cy="32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3600" spc="-1" strike="noStrike">
                <a:solidFill>
                  <a:srgbClr val="ff9966"/>
                </a:solidFill>
                <a:latin typeface="Arial"/>
              </a:rPr>
              <a:t>Una frase per avere senso deve avere almeno due elementi: </a:t>
            </a:r>
            <a:br>
              <a:rPr sz="3600"/>
            </a:br>
            <a:br>
              <a:rPr sz="3600"/>
            </a:br>
            <a:r>
              <a:rPr b="1" i="1" lang="en-US" sz="4400" spc="-1" strike="noStrike" u="sng">
                <a:solidFill>
                  <a:srgbClr val="ff9966"/>
                </a:solidFill>
                <a:uFillTx/>
                <a:latin typeface="Arial"/>
              </a:rPr>
              <a:t>SOGGETTO E VERBO</a:t>
            </a:r>
            <a:br>
              <a:rPr sz="4400"/>
            </a:br>
            <a:br>
              <a:rPr sz="4400"/>
            </a:br>
            <a:r>
              <a:rPr b="1" lang="en-US" sz="3600" spc="-1" strike="noStrike">
                <a:solidFill>
                  <a:srgbClr val="ff9966"/>
                </a:solidFill>
                <a:latin typeface="Arial"/>
              </a:rPr>
              <a:t>Es: IO VADO.</a:t>
            </a:r>
            <a:endParaRPr b="1" i="1" lang="en-US" sz="36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2320" y="3466800"/>
            <a:ext cx="9306000" cy="366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Times New Roman"/>
              </a:rPr>
              <a:t>A volte il soggetto può essere sottinteso ma è comunque presente.</a:t>
            </a:r>
            <a:endParaRPr b="0" lang="en-US" sz="36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36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i="1" lang="en-US" sz="3600" spc="-1" strike="noStrike">
                <a:solidFill>
                  <a:srgbClr val="cccccc"/>
                </a:solidFill>
                <a:latin typeface="Times New Roman"/>
              </a:rPr>
              <a:t>Es: VADO.</a:t>
            </a:r>
            <a:endParaRPr b="0" lang="en-US" sz="36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6440" y="-279720"/>
            <a:ext cx="9131400" cy="170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IL COMPLEMENTO: completa la frase 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90480" y="1226880"/>
            <a:ext cx="9306000" cy="71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95000"/>
              </a:lnSpc>
              <a:spcBef>
                <a:spcPts val="3200"/>
              </a:spcBef>
              <a:spcAft>
                <a:spcPts val="33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GB" sz="3200" spc="-1" strike="noStrike">
                <a:solidFill>
                  <a:srgbClr val="cccccc"/>
                </a:solidFill>
                <a:latin typeface="Times New Roman"/>
              </a:rPr>
              <a:t>Compl. </a:t>
            </a:r>
            <a:r>
              <a:rPr b="1" i="1" lang="en-GB" sz="3200" spc="-1" strike="noStrike" u="sng">
                <a:solidFill>
                  <a:srgbClr val="cccccc"/>
                </a:solidFill>
                <a:uFillTx/>
                <a:latin typeface="Times New Roman"/>
              </a:rPr>
              <a:t>oggetto</a:t>
            </a:r>
            <a:r>
              <a:rPr b="1" i="1" lang="en-GB" sz="3200" spc="-1" strike="noStrike">
                <a:solidFill>
                  <a:srgbClr val="cccccc"/>
                </a:solidFill>
                <a:latin typeface="Times New Roman"/>
              </a:rPr>
              <a:t>: (Risponde alla domanda: chi?      Che cosa?)   Es: Io preparo un bilancio 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-216000">
              <a:lnSpc>
                <a:spcPct val="95000"/>
              </a:lnSpc>
              <a:spcBef>
                <a:spcPts val="3200"/>
              </a:spcBef>
              <a:spcAft>
                <a:spcPts val="33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GB" sz="3200" spc="-1" strike="noStrike">
                <a:solidFill>
                  <a:srgbClr val="cccccc"/>
                </a:solidFill>
                <a:latin typeface="Times New Roman"/>
              </a:rPr>
              <a:t>Compl. </a:t>
            </a:r>
            <a:r>
              <a:rPr b="1" i="1" lang="en-GB" sz="3200" spc="-1" strike="noStrike" u="sng">
                <a:solidFill>
                  <a:srgbClr val="cccccc"/>
                </a:solidFill>
                <a:uFillTx/>
                <a:latin typeface="Times New Roman"/>
              </a:rPr>
              <a:t>di specificazione</a:t>
            </a:r>
            <a:r>
              <a:rPr b="1" i="1" lang="en-GB" sz="3200" spc="-1" strike="noStrike">
                <a:solidFill>
                  <a:srgbClr val="cccccc"/>
                </a:solidFill>
                <a:latin typeface="Times New Roman"/>
              </a:rPr>
              <a:t>: (Risponde alla domanda:di chi? Di che cosa?)   Es: La macchina del rappresentante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-216000">
              <a:lnSpc>
                <a:spcPct val="95000"/>
              </a:lnSpc>
              <a:spcBef>
                <a:spcPts val="3200"/>
              </a:spcBef>
              <a:spcAft>
                <a:spcPts val="330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GB" sz="3200" spc="-1" strike="noStrike">
                <a:solidFill>
                  <a:srgbClr val="cccccc"/>
                </a:solidFill>
                <a:latin typeface="Times New Roman"/>
              </a:rPr>
              <a:t>Compl. </a:t>
            </a:r>
            <a:r>
              <a:rPr b="1" i="1" lang="en-GB" sz="3200" spc="-1" strike="noStrike" u="sng">
                <a:solidFill>
                  <a:srgbClr val="cccccc"/>
                </a:solidFill>
                <a:uFillTx/>
                <a:latin typeface="Times New Roman"/>
              </a:rPr>
              <a:t>di termine</a:t>
            </a:r>
            <a:r>
              <a:rPr b="1" i="1" lang="en-GB" sz="3200" spc="-1" strike="noStrike">
                <a:solidFill>
                  <a:srgbClr val="cccccc"/>
                </a:solidFill>
                <a:latin typeface="Times New Roman"/>
              </a:rPr>
              <a:t>: (Risponde alla domanda: a chi? A che cosa?)   Es: Do questo compito a te</a:t>
            </a: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  <a:p>
            <a:pPr marL="216000" indent="0" algn="ctr">
              <a:lnSpc>
                <a:spcPct val="95000"/>
              </a:lnSpc>
              <a:spcBef>
                <a:spcPts val="286"/>
              </a:spcBef>
              <a:spcAft>
                <a:spcPts val="28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32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00440" y="3905280"/>
            <a:ext cx="14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820000" y="2876400"/>
            <a:ext cx="1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4960" y="873000"/>
            <a:ext cx="9131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4400" spc="-1" strike="noStrike">
                <a:solidFill>
                  <a:srgbClr val="ff9966"/>
                </a:solidFill>
                <a:latin typeface="Arial"/>
              </a:rPr>
              <a:t>Frasi attive:</a:t>
            </a:r>
            <a:endParaRPr b="1" i="1" lang="en-US" sz="4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728640" y="1525680"/>
            <a:ext cx="930600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4000" spc="-1" strike="noStrike">
                <a:solidFill>
                  <a:srgbClr val="cccccc"/>
                </a:solidFill>
                <a:latin typeface="Times New Roman"/>
                <a:ea typeface="HG Mincho Light J"/>
              </a:rPr>
              <a:t>     </a:t>
            </a:r>
            <a:r>
              <a:rPr b="0" lang="en-US" sz="4000" spc="-1" strike="noStrike">
                <a:solidFill>
                  <a:srgbClr val="cccccc"/>
                </a:solidFill>
                <a:latin typeface="Times New Roman"/>
                <a:ea typeface="HG Mincho Light J"/>
              </a:rPr>
              <a:t>Io                 scrivo                una lettera</a:t>
            </a:r>
            <a:endParaRPr b="0" lang="en-US" sz="4000" spc="-1" strike="noStrike">
              <a:solidFill>
                <a:srgbClr val="cccccc"/>
              </a:solidFill>
              <a:latin typeface="Times New Roman"/>
            </a:endParaRPr>
          </a:p>
          <a:p>
            <a:pPr lvl="1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4000" spc="-1" strike="noStrike">
              <a:solidFill>
                <a:srgbClr val="cccccc"/>
              </a:solidFill>
              <a:latin typeface="Times New Roman"/>
            </a:endParaRPr>
          </a:p>
          <a:p>
            <a:pPr lvl="1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  <a:ea typeface="HG Mincho Light J"/>
              </a:rPr>
              <a:t>SOGGETTO                VERBO                 COMPL. OGGETTO</a:t>
            </a:r>
            <a:endParaRPr b="0" lang="en-US" sz="2800" spc="-1" strike="noStrike">
              <a:solidFill>
                <a:srgbClr val="cccccc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295280" y="3086280"/>
            <a:ext cx="4114800" cy="3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895320"/>
            <a:ext cx="30668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7360" y="853560"/>
            <a:ext cx="9131400" cy="12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1" i="1" lang="en-US" sz="4500" spc="-1" strike="noStrike">
                <a:solidFill>
                  <a:srgbClr val="ff9966"/>
                </a:solidFill>
                <a:latin typeface="Arial"/>
              </a:rPr>
              <a:t>Frasi passive:</a:t>
            </a:r>
            <a:endParaRPr b="1" i="1" lang="en-US" sz="45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93720" y="1617840"/>
            <a:ext cx="930600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4000" spc="-1" strike="noStrike">
                <a:solidFill>
                  <a:srgbClr val="cccccc"/>
                </a:solidFill>
                <a:latin typeface="Times New Roman"/>
                <a:ea typeface="HG Mincho Light J"/>
              </a:rPr>
              <a:t>La lettera          è scritta            da me</a:t>
            </a:r>
            <a:endParaRPr b="0" lang="en-US" sz="4000" spc="-1" strike="noStrike">
              <a:solidFill>
                <a:srgbClr val="cccccc"/>
              </a:solidFill>
              <a:latin typeface="Times New Roman"/>
            </a:endParaRPr>
          </a:p>
          <a:p>
            <a:pPr lvl="1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endParaRPr b="0" lang="en-US" sz="4000" spc="-1" strike="noStrike">
              <a:solidFill>
                <a:srgbClr val="cccccc"/>
              </a:solidFill>
              <a:latin typeface="Times New Roman"/>
            </a:endParaRPr>
          </a:p>
          <a:p>
            <a:pPr lvl="1"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348840"/>
                <a:tab algn="l" pos="10067760"/>
                <a:tab algn="l" pos="1078704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  <a:ea typeface="HG Mincho Light J"/>
              </a:rPr>
              <a:t>SOGGETTO                VERBO                 COMPL. D'AGENTE</a:t>
            </a:r>
            <a:endParaRPr b="0" lang="en-US" sz="28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SC</cp:lastModifiedBy>
  <dcterms:modified xsi:type="dcterms:W3CDTF">2005-09-20T19:27:38Z</dcterms:modified>
  <cp:revision>1</cp:revision>
  <dc:subject/>
  <dc:title>IL  NOME: è la parte variabile del discorso e serve a nominare cose, persone o animali</dc:title>
</cp:coreProperties>
</file>