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BC64-78BC-4A6E-BA96-2A86B236D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8DA8-8218-404A-B2EA-89F8D893A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28CA-B820-4711-8057-03D3517D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20BB-CFC6-4C3E-B3B2-7D4D9E9F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105D-F915-4091-AD6C-0D22FB0E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10AC-0292-4F7D-956C-10F671A4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AD3A-594A-4CF1-B6A0-8C63760A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8DE37-ABA7-4319-82DD-B0825A0B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C51F6-A622-47F6-ACFD-7B1A30288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A5AF-9498-4FDB-A0AC-8CBEA05C2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5839-ECA6-45ED-8B31-848345EC4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0C2C-8805-4E27-9537-3D202961C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C1824-1B10-44AD-A894-18B0C881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729B2-A982-47E2-9880-265162F2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01B5-CF1A-4C08-83F3-AE101075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0A2C7-CAB3-4130-9607-12A57B9AD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1AE2-ED43-47A6-A206-4A2B830BF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B2AC-CFBE-4DC5-B14C-68F8344E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B54D-A80E-464C-9423-6E7CB28B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9633-A40A-4119-9AD3-6E066000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4352-9AC1-42F2-99D4-9756EFD0C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B08D-75A3-4DEB-A92F-6F545486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8F63-F557-4268-A1C1-19A20CD27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45DA-9847-4713-A224-AFE3D4ED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908C-0562-49D5-A31C-9E32B3DCC1F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0AB44-34CC-4FD6-9604-3901E90B780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1782360"/>
            <a:ext cx="77724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00"/>
                </a:solidFill>
                <a:latin typeface="Arial"/>
              </a:rPr>
              <a:t>Scrivere una relazione utilizzando dati statistici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0328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È fatta ben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ferimenti bibliografic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ordine alfabetic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mple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Appendici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lo materiale aggiuntivo funzionale al testo princip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l lettore non deve essere obbligato a leggerle per una piena comprensio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ile di scritt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mperson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riodi brev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vitare il gergo tecnico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truttura delle relazion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umerare chiaramente capitoli e paragraf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esentazione del tes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rgini amp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rattere adegua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rtografia e sintassi corret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l titol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dicazione precisa dei contenu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ltre al titolo indica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utore/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uttura di appartenenz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t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ingraziamen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verdana"/>
              </a:rPr>
              <a:t>Sono stati fatti?...non sempre è opportuno metter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di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apitoli e paragrafi elencati in ordine con il numero della pagina inizia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dice tabelle e illustrazio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mmari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crivere l’argomento trattat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ntesi delle metodologie utilizz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È buona regola scriverlo alla f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etodologia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dicare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che modo sono stati raccolti i da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nti consultate e utilizz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 che modo sono stati sintetizzati i da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ali indicatori sono stati costruit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…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 risultati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abelle e figure chiare e leggibi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iportare elementi essenzia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toli chiari ed esplicativ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sto, tabelle e figure ben integrate, per facilitare la comprensione del letto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Discussione cri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dividuare con chiarezza i punti essenzial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piegare in modo appropriato i risultati ottenu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escrivere le difficoltà incontra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entare punti di vista divers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clusioni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ntesi ordinata delle idee e delle argomentazio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n inserire nuove informazio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dicazioni chiare e conci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14:35:44Z</dcterms:created>
  <dc:creator>FSC</dc:creator>
  <dc:description/>
  <dc:language>en-US</dc:language>
  <cp:lastModifiedBy>FSC</cp:lastModifiedBy>
  <dcterms:modified xsi:type="dcterms:W3CDTF">2005-10-13T15:50:12Z</dcterms:modified>
  <cp:revision>5</cp:revision>
  <dc:subject/>
  <dc:title>Scrivere una relazione</dc:title>
</cp:coreProperties>
</file>